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0" y="71280"/>
          <a:ext cx="8915400" cy="67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280"/>
                    <a:ext cx="8915400" cy="67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159840" y="6477120"/>
            <a:ext cx="8776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16                                                                                                           COMP 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9840" y="6477120"/>
            <a:ext cx="8776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40                                                                                                           COMP 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8432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64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7640" y="1252440"/>
            <a:ext cx="825876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526-     1100  DPA6          CPA01CA6103351                   L       000000    57,067.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51                   L       000000       257.6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51                   L       000000     4,056.8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51                   L       000000     2,221.6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526-                                                                            63,603.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526-                                                                            63,603.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3960" y="5519880"/>
            <a:ext cx="8182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24,228-                                                                           290,736.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0760" y="6464160"/>
            <a:ext cx="884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51                                                                                                             COMP 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8432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64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252440"/>
            <a:ext cx="81824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905   *    294      1100  DPA6          CPA01CA6103365                           300017     2,11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905   *             1200  DPA6          CPA01CA6103365                           300017         8.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905   *             1200  DPA6          CPA01CA6103365                           300017        58.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905   *             1200  DPA6          CPA01CA6103365                           300017        96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294                                                                              2,280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294                                                                              2,280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3960" y="5519880"/>
            <a:ext cx="8182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3,460                                                                             161,52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0872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0760" y="6464160"/>
            <a:ext cx="884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53                                                                                                             COMP 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8432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764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1252440"/>
            <a:ext cx="81824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232      1100  DPA6          CPA01CA6103365                   L       000000    25,36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65                   L       000000       11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65                   L       000000      18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65                   L       000000       98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232                                                                             28,25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232                                                                             28,25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3960" y="5519880"/>
            <a:ext cx="8030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0,768                                                                           129,21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60" y="6464160"/>
            <a:ext cx="8776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55                                                                                                           COMP 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1:47:46Z</dcterms:created>
  <dc:creator>Jim Nobbs</dc:creator>
  <dc:description/>
  <dc:language>en-US</dc:language>
  <cp:lastModifiedBy>Administrator</cp:lastModifiedBy>
  <cp:lastPrinted>2000-02-04T18:47:38Z</cp:lastPrinted>
  <dcterms:modified xsi:type="dcterms:W3CDTF">2004-09-16T15:16:51Z</dcterms:modified>
  <cp:revision>15</cp:revision>
  <dc:subject/>
  <dc:title>No Slide Title</dc:title>
</cp:coreProperties>
</file>